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22.wmf" ContentType="image/x-wmf"/>
  <Override PartName="/ppt/media/image6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4.png" ContentType="image/pn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8991" b="0"/>
          <a:stretch/>
        </p:blipFill>
        <p:spPr>
          <a:xfrm>
            <a:off x="0" y="0"/>
            <a:ext cx="6172200" cy="62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C46F-4CC4-45ED-9EAD-03D82865A0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228240" y="624852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8991" b="0"/>
          <a:stretch/>
        </p:blipFill>
        <p:spPr>
          <a:xfrm>
            <a:off x="0" y="0"/>
            <a:ext cx="617220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ach/0.%20crime%20scene.cma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oach/verkeersplein.cma" TargetMode="External"/><Relationship Id="rId2" Type="http://schemas.openxmlformats.org/officeDocument/2006/relationships/hyperlink" Target="file:///Coach/verkeersplein.cma" TargetMode="External"/><Relationship Id="rId3" Type="http://schemas.openxmlformats.org/officeDocument/2006/relationships/hyperlink" Target="file:///Coach/verkeersplein.cma" TargetMode="External"/><Relationship Id="rId4" Type="http://schemas.openxmlformats.org/officeDocument/2006/relationships/hyperlink" Target="file:///Coach/5a.%20Golden%20Gate%20brug.cma" TargetMode="External"/><Relationship Id="rId5" Type="http://schemas.openxmlformats.org/officeDocument/2006/relationships/hyperlink" Target="file:///Coach/3a.%20De%20halsketting.cma" TargetMode="External"/><Relationship Id="rId6" Type="http://schemas.openxmlformats.org/officeDocument/2006/relationships/hyperlink" Target="file:///Coach/3a.%20De%20halsketting.cma" TargetMode="External"/><Relationship Id="rId7" Type="http://schemas.openxmlformats.org/officeDocument/2006/relationships/hyperlink" Target="file:///Coach/3a.%20De%20halsketting.cma" TargetMode="External"/><Relationship Id="rId8" Type="http://schemas.openxmlformats.org/officeDocument/2006/relationships/hyperlink" Target="file:///Coach/8a.%20Amy_Esther_verticale_rectificatie.cma" TargetMode="External"/><Relationship Id="rId9" Type="http://schemas.openxmlformats.org/officeDocument/2006/relationships/hyperlink" Target="file:///Coach/8b.%20Amy_Esther_horizontale_rectificatie.cma" TargetMode="Externa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GeoGebra/scharrelei_fig3.ggb" TargetMode="External"/><Relationship Id="rId2" Type="http://schemas.openxmlformats.org/officeDocument/2006/relationships/hyperlink" Target="file:///GeoGebra/scharrelei_fig5.ggb" TargetMode="External"/><Relationship Id="rId3" Type="http://schemas.openxmlformats.org/officeDocument/2006/relationships/hyperlink" Target="file:///GeoGebra/scharrelei_fig5.ggb" TargetMode="External"/><Relationship Id="rId4" Type="http://schemas.openxmlformats.org/officeDocument/2006/relationships/hyperlink" Target="file:///GeoGebra/scharrelei_fig5.ggb" TargetMode="External"/><Relationship Id="rId5" Type="http://schemas.openxmlformats.org/officeDocument/2006/relationships/hyperlink" Target="file:///GeoGebra/scharrelei_fig5.ggb" TargetMode="External"/><Relationship Id="rId6" Type="http://schemas.openxmlformats.org/officeDocument/2006/relationships/hyperlink" Target="file:///GeoGebra/halsketting.ggb" TargetMode="External"/><Relationship Id="rId7" Type="http://schemas.openxmlformats.org/officeDocument/2006/relationships/hyperlink" Target="file:///GeoGebra/sjabloon.ggb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activiteiten/Coach/0.%20crime%20scene.cma" TargetMode="External"/><Relationship Id="rId2" Type="http://schemas.openxmlformats.org/officeDocument/2006/relationships/hyperlink" Target="file:///../activiteiten/Coach/0.%20crime%20scene.cma" TargetMode="External"/><Relationship Id="rId3" Type="http://schemas.openxmlformats.org/officeDocument/2006/relationships/hyperlink" Target="file:///../activiteiten/Coach/6.%20schuivende%20munten.cma" TargetMode="External"/><Relationship Id="rId4" Type="http://schemas.openxmlformats.org/officeDocument/2006/relationships/hyperlink" Target="file:///../activiteiten/Coach/1.%20papiervorm.cma" TargetMode="External"/><Relationship Id="rId5" Type="http://schemas.openxmlformats.org/officeDocument/2006/relationships/hyperlink" Target="file:///../activiteiten/Coach/7.%20Snookerstoot.cma" TargetMode="External"/><Relationship Id="rId6" Type="http://schemas.openxmlformats.org/officeDocument/2006/relationships/hyperlink" Target="file:///../activiteiten/Coach/2.%20tafelomvang.cma" TargetMode="External"/><Relationship Id="rId7" Type="http://schemas.openxmlformats.org/officeDocument/2006/relationships/hyperlink" Target="file:///../activiteiten/Coach/8a.%20Amy_Esther_verticale_rectificatie.cmr" TargetMode="External"/><Relationship Id="rId8" Type="http://schemas.openxmlformats.org/officeDocument/2006/relationships/hyperlink" Target="file:///../activiteiten/Coach/8a.%20Amy_Esther_verticale_rectificatie.cmr" TargetMode="External"/><Relationship Id="rId9" Type="http://schemas.openxmlformats.org/officeDocument/2006/relationships/hyperlink" Target="file:///../activiteiten/Coach/8a.%20Amy_Esther_verticale_rectificatie.cmr" TargetMode="External"/><Relationship Id="rId10" Type="http://schemas.openxmlformats.org/officeDocument/2006/relationships/hyperlink" Target="file:///../activiteiten/Coach/8a.%20Amy_Esther_verticale_rectificatie.cmr" TargetMode="External"/><Relationship Id="rId11" Type="http://schemas.openxmlformats.org/officeDocument/2006/relationships/hyperlink" Target="file:///../activiteiten/Coach/8a.%20Amy_Esther_verticale_rectificatie.cmr" TargetMode="External"/><Relationship Id="rId12" Type="http://schemas.openxmlformats.org/officeDocument/2006/relationships/hyperlink" Target="file:///../activiteiten/Coach/3a.%20De%20halsketting.cma" TargetMode="External"/><Relationship Id="rId13" Type="http://schemas.openxmlformats.org/officeDocument/2006/relationships/hyperlink" Target="file:///../activiteiten/Coach/8b.%20Amy_Esther_horizontale_rectificatie.cma" TargetMode="External"/><Relationship Id="rId14" Type="http://schemas.openxmlformats.org/officeDocument/2006/relationships/hyperlink" Target="file:///../activiteiten/Coach/8b.%20Amy_Esther_horizontale_rectificatie.cma" TargetMode="External"/><Relationship Id="rId15" Type="http://schemas.openxmlformats.org/officeDocument/2006/relationships/hyperlink" Target="file:///../activiteiten/Coach/8b.%20Amy_Esther_horizontale_rectificatie.cma" TargetMode="External"/><Relationship Id="rId16" Type="http://schemas.openxmlformats.org/officeDocument/2006/relationships/hyperlink" Target="file:///../activiteiten/Coach/8b.%20Amy_Esther_horizontale_rectificatie.cma" TargetMode="External"/><Relationship Id="rId17" Type="http://schemas.openxmlformats.org/officeDocument/2006/relationships/hyperlink" Target="file:///../activiteiten/Coach/8b.%20Amy_Esther_horizontale_rectificatie.cma" TargetMode="External"/><Relationship Id="rId18" Type="http://schemas.openxmlformats.org/officeDocument/2006/relationships/hyperlink" Target="file:///../activiteiten/Coach/4.%20De%20Clifton%20hangbrug%20in%20Bristol.cma" TargetMode="External"/><Relationship Id="rId19" Type="http://schemas.openxmlformats.org/officeDocument/2006/relationships/hyperlink" Target="file:///../activiteiten/Coach/4.%20De%20Clifton%20hangbrug%20in%20Bristol.cma" TargetMode="External"/><Relationship Id="rId20" Type="http://schemas.openxmlformats.org/officeDocument/2006/relationships/hyperlink" Target="file:///../activiteiten/Coach/4.%20De%20Clifton%20hangbrug%20in%20Bristol.cma" TargetMode="External"/><Relationship Id="rId21" Type="http://schemas.openxmlformats.org/officeDocument/2006/relationships/hyperlink" Target="file:///../activiteiten/Coach/4.%20De%20Clifton%20hangbrug%20in%20Bristol.cma" TargetMode="External"/><Relationship Id="rId22" Type="http://schemas.openxmlformats.org/officeDocument/2006/relationships/hyperlink" Target="file:///../activiteiten/Coach/9.%20Bewegingsanalyse%20via%20fotografie.cma" TargetMode="External"/><Relationship Id="rId23" Type="http://schemas.openxmlformats.org/officeDocument/2006/relationships/hyperlink" Target="file:///../activiteiten/Coach/5a.%20Golden%20Gate%20brug.cma" TargetMode="External"/><Relationship Id="rId24" Type="http://schemas.openxmlformats.org/officeDocument/2006/relationships/hyperlink" Target="file:///../activiteiten/Coach/5a.%20Golden%20Gate%20brug.cma" TargetMode="External"/><Relationship Id="rId25" Type="http://schemas.openxmlformats.org/officeDocument/2006/relationships/hyperlink" Target="file:///../activiteiten/Coach/5a.%20Golden%20Gate%20brug.cma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GeoGebra/sjabloon.ggb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1960" y="1676160"/>
            <a:ext cx="6019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skunde ontwikkelen met foto’s </a:t>
            </a:r>
            <a:br>
              <a:rPr sz="28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WD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361960" y="46483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é 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L Instituut, U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ww.science.uva.nl/~h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5640" y="990720"/>
            <a:ext cx="877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punts perspectief constructie van Jean Pelerin (alias Viator, 1445-152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bekend onder de naam distantiep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1941480"/>
          <a:ext cx="8991720" cy="30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41480"/>
                    <a:ext cx="899172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ldrectificatie (met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oach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2351160"/>
            <a:ext cx="4038480" cy="30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03200" y="1752480"/>
            <a:ext cx="45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                                                   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kele toepasingen van beeldrectif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nsische fotografi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erkenning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van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ek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logo’s op een fot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en van posities en afstanden op foto’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ïsche benadering via regressie:</a:t>
            </a:r>
            <a:br>
              <a:rPr sz="2000"/>
            </a:b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angbr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ergelijk ook eens met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ngende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k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itiebepaling in videocli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structie van verkeersongelukk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elheidsbepaling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verti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horizon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eldrectifica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gelijk gebruik van foto’s in DGS: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iskundige benadering van vo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GeoG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vorm: zie electronic paper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thematical Brooding over an Eg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meetkundi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lgebra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ï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sch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 via schuifbalk</a:t>
            </a:r>
            <a:br>
              <a:rPr sz="2000"/>
            </a:br>
            <a:r>
              <a:rPr b="0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alskett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construc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puterpracti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Coach activit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bbelklik op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ach NWD14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nop in de folder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WD14/activit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 Coach 6 te starten met het NWD14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een van de activiteiten. Je kunt ook steeds op een los Coach bestand dubbelkli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0. crime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scen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6. schuivende mu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. papiervorm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7. Snookerst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2. tafelomva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8a.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Amy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_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Esther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_verticale_rectific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3a. de halskett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8b.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Amy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_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Esther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_horizontale_rectific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4. de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Clifton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 hangbrug in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Bristo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9. bewegingsanalyse via fot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5a. Golden 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Gate</a:t>
            </a:r>
            <a:r>
              <a:rPr b="0" lang="nl-NL" sz="20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 b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puterpracti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GeoGebra activit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bbelklik op d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ge activitei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 de folder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WD14/activiteiten/GeoGebr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m GeoGebra te starten of dubbelklik op het programma-ikoon i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WD14/activitei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staan al klaar in de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ies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oe eerst zelf de kettinglijn bepaling voor een halskettng. Instructies hiervoor zijn in een handout beschikba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werk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lsketting (kettinglijn, papier 21x30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rrel-ei (meetkundig), scharrel-ei (algeb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ïsch via schuifbal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utto-ei (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b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ïsch via schuifbalk: parabool + ell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ats van misdrijf (meetkundige betegel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lion fontein in Singapore (bron: A. Oldknow, hoogte van beeld: 8,6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skundige uitleg” over rectif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7680" y="1563840"/>
            <a:ext cx="83977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oretische basis is projectieve meet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nderstellingen omtrent het fototoe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lensverv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nhole camera model: centrale projectie op een vla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beeldvormingsproces is die van een camera obsc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338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eetkunde" descr=""/>
          <p:cNvPicPr/>
          <p:nvPr/>
        </p:nvPicPr>
        <p:blipFill>
          <a:blip r:embed="rId1"/>
          <a:stretch/>
        </p:blipFill>
        <p:spPr>
          <a:xfrm>
            <a:off x="1295280" y="3728880"/>
            <a:ext cx="59436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9144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camera-gecentreerd assenstelsel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puntafst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ènepunt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rojecteert op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in het beeldvl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n geldt: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 met 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jectie is als lineaire afbeelding en met matrixrekening te beschrijven door over te gaan op homogene coördina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algemeen is het verband gegeven door een willekeurig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</a:t>
            </a:r>
            <a:r>
              <a:rPr b="0" lang="nl-NL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jectie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386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5120" y="3657600"/>
          <a:ext cx="342900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657600"/>
                    <a:ext cx="34290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01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al geval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jectie van punten in het ene vlak naar het and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4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vlakken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181480" cy="307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0" y="3230640"/>
          <a:ext cx="676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30640"/>
                    <a:ext cx="676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3230640"/>
          <a:ext cx="800280" cy="19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30640"/>
                    <a:ext cx="8002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04920" y="51814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rojecteert op 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.         D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6244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733920" y="4952880"/>
          <a:ext cx="3657600" cy="154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4952880"/>
                    <a:ext cx="36576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4160" y="838080"/>
            <a:ext cx="685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s: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3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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omogene matrix, = op scalar 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inhomogene coördina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812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2514600"/>
          <a:ext cx="861084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861084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72600" y="3925800"/>
            <a:ext cx="65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correspondentie geeft twee vergelijk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4572000"/>
          <a:ext cx="6324480" cy="12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632448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0240" y="609588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lusie: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paald door 4 punten in algemene posit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 meet je afstanden op onderstaande foto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geven dat het perspectiefvierkant 50x50cm groot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004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248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99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8040" y="1066680"/>
            <a:ext cx="440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mplementatie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binding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38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2057400"/>
          <a:ext cx="228600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22860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194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743200" y="1981080"/>
          <a:ext cx="250992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981080"/>
                    <a:ext cx="250992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5272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638680" y="2057400"/>
          <a:ext cx="350532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057400"/>
                    <a:ext cx="350532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15764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4191120"/>
          <a:ext cx="205740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191120"/>
                    <a:ext cx="2057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445840" y="415620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de vergelijking van de vluchtlijn in de f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080" y="4992840"/>
            <a:ext cx="885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een affiene afbeelding die een ruit in een rechthoek transforme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een gelijkvormigheidstransformatie met isotrope sc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clusie: wiskunde tot leven gebracht met fot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skundewereld en echte wereld met elkaar verbonden: motiverend, authenticiteit van werk verho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skundige functies en meetkundige transformaties zijn geen hobby van leraren, maar zijn belangrijk in allerlei toepass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bra en meetkunde gaan hand in hand in de modellering van de echte wereld met wisku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making met modern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toch vooral ook erg leuk en inspirer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. onderzoek naar schoonheidside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fere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ré Heck (2004). Met een schuine bl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ieuwe Wiskra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23(3) (2004) 29 - 32.</a:t>
            </a:r>
            <a:br>
              <a:rPr sz="20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ré Heck (2004). Wiskundig broeden op een e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ieuwe Wiskra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24 (1) (2004) 4 - 13.</a:t>
            </a:r>
            <a:br>
              <a:rPr sz="20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ré Heck &amp; Peter Uylings (2006). Capturing the real world in the classroom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ernational Journal for Technology in Mathematics Edu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13 (3), 107 - 116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ré Heck (2007). Modelleren van bruggen en bogen (in Dutch)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ieuwe Wiskrant 27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1) 42-5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ebowitz, D. &amp; Zisserman, A. (1998) Metric Rec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Perspective Images of Planes. In: Proceedings of the IEEE Conference on Computer Vision and Pattern Recognition. pp. 482-4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ww.robots.ox.ac.uk/~vgg/publications/papers/liebowitz98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ward M. Robinson (2007). Creme Scene Photography. Academic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kundige aanpak (bijvoorbeeld met </a:t>
            </a:r>
            <a:r>
              <a:rPr b="0" lang="nl-NL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GeoGebr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breiding van een rooster van perspectieft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g zijden van perspectief-vierk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id basis van perspectief-vierkant aan weerszijden 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ind nieuwe basispunten met het verdwijnpunt op de horiz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rkeer snijpunten van lij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43400" y="1523880"/>
          <a:ext cx="464832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523880"/>
                    <a:ext cx="46483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breiding van een rooster van perspectieft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g hoofddiagonalen van perspectief-vierkant en van andere vierkanten op d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eg 3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rizontale lijn toe en markeer snijpunten met overige lij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267080" y="1523880"/>
          <a:ext cx="4648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523880"/>
                    <a:ext cx="4648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breiding van een rooster van perspectieft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g hoofddiagonalen van vierkanten op de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eg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rizontale lijn toe en markeer snijpu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67080" y="1447920"/>
          <a:ext cx="4648320" cy="40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447920"/>
                    <a:ext cx="464832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breiding van een rooster van perspectieft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j is gevuld met perspectief-vierkanten. Vul ook de 3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leteer perspectief-vierkanten door ander hoofdlijnen te 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ositie van sleutelbos is nu afgebak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95680" y="1523880"/>
          <a:ext cx="449604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523880"/>
                    <a:ext cx="449604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ijning van het rooster van perspectieft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rkeer alle snijpunten op een  perspectief-vierk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ken horizontale en verticale lijnen in het vierkant die de punten verbi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24280" y="2057400"/>
          <a:ext cx="426744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ijning van het rooster van perspectieft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es een kwadrant, zeg rechts-onder, en verbind de middens van de zijden met elka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 hebt nu een nieuw perspectief-vierkant me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lve afm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419720" y="2133720"/>
          <a:ext cx="4495680" cy="29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133720"/>
                    <a:ext cx="44956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4840" y="762120"/>
            <a:ext cx="70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onstructie van de betegeling is terug te voeren 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pectief constructie van Leon Battista Alberti (1404-14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498680"/>
          <a:ext cx="754380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98680"/>
                    <a:ext cx="754380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3:58:52Z</dcterms:created>
  <dc:creator>Margriet Heim</dc:creator>
  <dc:description/>
  <dc:language>en-US</dc:language>
  <cp:lastModifiedBy>heck</cp:lastModifiedBy>
  <dcterms:modified xsi:type="dcterms:W3CDTF">2008-02-13T10:14:34Z</dcterms:modified>
  <cp:revision>76</cp:revision>
  <dc:subject/>
  <dc:title>Over kwaliteit</dc:title>
</cp:coreProperties>
</file>